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F2A98-DE64-445A-B0BE-ADFEDC2CA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1E1B-9781-4B2B-9282-1D7F5C3E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05206-0476-4657-B30D-70CF5DC02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A67C7-F0DD-4FE6-B85C-FD742E491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EA6CE-2C69-4539-9199-5742AE456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39E6C-051C-4CC6-A415-3FCC6CC0D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AF847-285D-48D8-8FFF-791FB04A1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CD118-44C4-4A3F-B151-82EA4FF09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A3B1B-D272-44EA-B162-BA026D2B3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4AB13-FD6D-4B90-82AC-1B75C2E62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BC389-B0B8-42EC-8116-4A4E51F31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8D067-0C9F-4121-8AFC-3B2001791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026FA-ECC2-473A-B7AF-14A52E589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E25C5-5F7D-4F63-8CC2-EB286508C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A6F66-5D3E-4313-A608-8B2A27AF1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05963-35B8-4D2C-8F3C-13AA15537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193AE-101C-44DC-A543-CDC8DC026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95918-EBE8-459C-8834-8EA2589F7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F4C0-2A72-4593-B5D5-8EC06B75C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F2A4-0EFD-40C3-A96F-D875CE337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47515-8887-4395-A702-628C666C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B37D-3050-4396-8CDD-EFBA2B4B6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344CF-B1F2-4DBC-9F9B-4F3E63E6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6A6B-9449-4A33-866B-B77901118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988D-492C-4357-9B7B-0205704C22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5ECB-D1B5-4EDE-821B-286F413B00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Bay is The World's Online Marketplace, enabling trade on a local, national and international basis. With a diverse and passionate community of individuals and small businesses, eBay offers an online platform where millions of items are traded each day.</a:t>
            </a:r>
            <a:endParaRPr b="0" lang="en-US" sz="2400" spc="-1" strike="noStrike">
              <a:solidFill>
                <a:srgbClr val="ffffff"/>
              </a:solidFill>
              <a:latin typeface="Arial"/>
            </a:endParaRPr>
          </a:p>
        </p:txBody>
      </p:sp>
      <p:pic>
        <p:nvPicPr>
          <p:cNvPr id="100" name="" descr=""/>
          <p:cNvPicPr/>
          <p:nvPr/>
        </p:nvPicPr>
        <p:blipFill>
          <a:blip r:embed="rId1"/>
          <a:stretch/>
        </p:blipFill>
        <p:spPr>
          <a:xfrm>
            <a:off x="990720" y="0"/>
            <a:ext cx="716256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p:nvPr>
        </p:nvSpPr>
        <p:spPr>
          <a:xfrm>
            <a:off x="914040" y="4419360"/>
            <a:ext cx="8007480" cy="20574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igslist is local classifieds and forums for more than 550 cities in over 50 countries worldwide community moderated, and largely free. You can find jobs, housing, goods, services, romance, local activities, advice, just about anything really. </a:t>
            </a:r>
            <a:endParaRPr b="0" lang="en-US" sz="2400" spc="-1" strike="noStrike">
              <a:solidFill>
                <a:srgbClr val="ffffff"/>
              </a:solidFill>
              <a:latin typeface="Arial"/>
            </a:endParaRPr>
          </a:p>
        </p:txBody>
      </p:sp>
      <p:pic>
        <p:nvPicPr>
          <p:cNvPr id="103" name="" descr=""/>
          <p:cNvPicPr/>
          <p:nvPr/>
        </p:nvPicPr>
        <p:blipFill>
          <a:blip r:embed="rId1"/>
          <a:stretch/>
        </p:blipFill>
        <p:spPr>
          <a:xfrm>
            <a:off x="1066680" y="0"/>
            <a:ext cx="708660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 name="PlaceHolder 2"/>
          <p:cNvSpPr>
            <a:spLocks noGrp="1"/>
          </p:cNvSpPr>
          <p:nvPr>
            <p:ph/>
          </p:nvPr>
        </p:nvSpPr>
        <p:spPr>
          <a:xfrm>
            <a:off x="685440" y="4800600"/>
            <a:ext cx="8007480" cy="18288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es are one of the many things I like to shop for online!  The variety is greater there and the deals are better.</a:t>
            </a:r>
            <a:endParaRPr b="0" lang="en-US" sz="3200" spc="-1" strike="noStrike">
              <a:solidFill>
                <a:srgbClr val="ffffff"/>
              </a:solidFill>
              <a:latin typeface="Arial"/>
            </a:endParaRPr>
          </a:p>
        </p:txBody>
      </p:sp>
      <p:pic>
        <p:nvPicPr>
          <p:cNvPr id="106" name="" descr=""/>
          <p:cNvPicPr/>
          <p:nvPr/>
        </p:nvPicPr>
        <p:blipFill>
          <a:blip r:embed="rId1"/>
          <a:stretch/>
        </p:blipFill>
        <p:spPr>
          <a:xfrm>
            <a:off x="1295280" y="0"/>
            <a:ext cx="66294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4647960"/>
            <a:ext cx="8007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o not only have to shop for clothes online, you can shop for household items as well and the same rules apply when doing so.</a:t>
            </a:r>
            <a:endParaRPr b="0" lang="en-US" sz="3200" spc="-1" strike="noStrike">
              <a:solidFill>
                <a:srgbClr val="ffffff"/>
              </a:solidFill>
              <a:latin typeface="Arial"/>
            </a:endParaRPr>
          </a:p>
        </p:txBody>
      </p:sp>
      <p:pic>
        <p:nvPicPr>
          <p:cNvPr id="109" name="" descr=""/>
          <p:cNvPicPr/>
          <p:nvPr/>
        </p:nvPicPr>
        <p:blipFill>
          <a:blip r:embed="rId1"/>
          <a:stretch/>
        </p:blipFill>
        <p:spPr>
          <a:xfrm>
            <a:off x="990720" y="0"/>
            <a:ext cx="716256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6:48:00Z</dcterms:created>
  <dc:creator>jthender</dc:creator>
  <dc:description/>
  <dc:language>en-US</dc:language>
  <cp:lastModifiedBy>jthender</cp:lastModifiedBy>
  <dcterms:modified xsi:type="dcterms:W3CDTF">2008-11-12T17:02:34Z</dcterms:modified>
  <cp:revision>2</cp:revision>
  <dc:subject/>
  <dc:title>Slide 1</dc:title>
</cp:coreProperties>
</file>